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7FD-D63A-4C95-959E-8991D675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941-3EBE-485F-860A-D8EEB4C5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C17-FD28-4454-AB5D-6A683A09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393-DE30-4F49-BBA8-9DE43A6F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EF6-39F2-44F1-8830-91A1CA96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B0C-8075-4FAB-AD57-051F00DE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E73-421E-4277-9D44-1EB67C5B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718-554F-4674-ACA8-6A031BC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A0C-3E64-4046-A9E3-97798FCC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EBF-12DC-4A36-9D44-24C0FFF9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51B-41EE-48B3-B027-5D2A16B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470-180F-4A99-B431-4FA2FD7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5969EEEC-31FA-42C2-82FB-0BEFB8AA7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921800" cy="52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Lesson7: 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447920" y="762120"/>
            <a:ext cx="58672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Play a game: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ct and gues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4382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i="1" lang="en-US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36147" dir="2700000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What do you do in the evening?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36147" dir="2700000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4343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小组合作，读文并写出答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79000" y="518148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u=2774846825,516837371&amp;fm=23&amp;gp=0"/>
          <p:cNvPicPr/>
          <p:nvPr/>
        </p:nvPicPr>
        <p:blipFill>
          <a:blip r:embed="rId1"/>
          <a:stretch/>
        </p:blipFill>
        <p:spPr>
          <a:xfrm>
            <a:off x="7162920" y="4419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f"/>
          <p:cNvPicPr/>
          <p:nvPr/>
        </p:nvPicPr>
        <p:blipFill>
          <a:blip r:embed="rId2"/>
          <a:stretch/>
        </p:blipFill>
        <p:spPr>
          <a:xfrm>
            <a:off x="4724280" y="4343400"/>
            <a:ext cx="1905120" cy="1577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 my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ad 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rite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6095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ing a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ay a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3352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tch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049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n the evening, I 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04920"/>
            <a:ext cx="914400" cy="685800"/>
          </a:xfrm>
          <a:custGeom>
            <a:avLst/>
            <a:gdLst/>
            <a:ahLst/>
            <a:rect l="l" t="t" r="r" b="b"/>
            <a:pathLst>
              <a:path w="1439" h="1079">
                <a:moveTo>
                  <a:pt x="0" y="412"/>
                </a:moveTo>
                <a:lnTo>
                  <a:pt x="550" y="412"/>
                </a:lnTo>
                <a:lnTo>
                  <a:pt x="719" y="0"/>
                </a:lnTo>
                <a:lnTo>
                  <a:pt x="889" y="412"/>
                </a:lnTo>
                <a:lnTo>
                  <a:pt x="1439" y="412"/>
                </a:lnTo>
                <a:lnTo>
                  <a:pt x="994" y="667"/>
                </a:lnTo>
                <a:lnTo>
                  <a:pt x="1164" y="1079"/>
                </a:lnTo>
                <a:lnTo>
                  <a:pt x="719" y="825"/>
                </a:lnTo>
                <a:lnTo>
                  <a:pt x="275" y="1079"/>
                </a:lnTo>
                <a:lnTo>
                  <a:pt x="444" y="667"/>
                </a:lnTo>
                <a:lnTo>
                  <a:pt x="0" y="41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u=1755039292,2638964036&amp;fm=11&amp;gp=0"/>
          <p:cNvPicPr/>
          <p:nvPr/>
        </p:nvPicPr>
        <p:blipFill>
          <a:blip r:embed="rId3"/>
          <a:stretch/>
        </p:blipFill>
        <p:spPr>
          <a:xfrm>
            <a:off x="6705720" y="1600200"/>
            <a:ext cx="2133360" cy="167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sten to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1452600"/>
            <a:ext cx="2268360" cy="1519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95600" y="1523880"/>
            <a:ext cx="1595520" cy="1551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729320" y="1600200"/>
            <a:ext cx="2052360" cy="161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309600" y="4114800"/>
            <a:ext cx="209556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2671920" y="4267080"/>
            <a:ext cx="159516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u=2774846825,516837371&amp;fm=23&amp;gp=0"/>
          <p:cNvPicPr/>
          <p:nvPr/>
        </p:nvPicPr>
        <p:blipFill>
          <a:blip r:embed="rId1"/>
          <a:stretch/>
        </p:blipFill>
        <p:spPr>
          <a:xfrm>
            <a:off x="6019920" y="48006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f"/>
          <p:cNvPicPr/>
          <p:nvPr/>
        </p:nvPicPr>
        <p:blipFill>
          <a:blip r:embed="rId2"/>
          <a:stretch/>
        </p:blipFill>
        <p:spPr>
          <a:xfrm>
            <a:off x="3733920" y="4800600"/>
            <a:ext cx="1671480" cy="1384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 my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3809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ad 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rite a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3809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248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ing a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6248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y a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809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tch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28600"/>
            <a:ext cx="4038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228600"/>
            <a:ext cx="2438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t's sing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9144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his is the way I ______, in the even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" cy="685800"/>
          </a:xfrm>
          <a:custGeom>
            <a:avLst/>
            <a:gdLst/>
            <a:ahLst/>
            <a:rect l="l" t="t" r="r" b="b"/>
            <a:pathLst>
              <a:path w="1439" h="1079">
                <a:moveTo>
                  <a:pt x="0" y="412"/>
                </a:moveTo>
                <a:lnTo>
                  <a:pt x="550" y="412"/>
                </a:lnTo>
                <a:lnTo>
                  <a:pt x="719" y="0"/>
                </a:lnTo>
                <a:lnTo>
                  <a:pt x="889" y="412"/>
                </a:lnTo>
                <a:lnTo>
                  <a:pt x="1439" y="412"/>
                </a:lnTo>
                <a:lnTo>
                  <a:pt x="994" y="667"/>
                </a:lnTo>
                <a:lnTo>
                  <a:pt x="1164" y="1079"/>
                </a:lnTo>
                <a:lnTo>
                  <a:pt x="719" y="825"/>
                </a:lnTo>
                <a:lnTo>
                  <a:pt x="275" y="1079"/>
                </a:lnTo>
                <a:lnTo>
                  <a:pt x="444" y="667"/>
                </a:lnTo>
                <a:lnTo>
                  <a:pt x="0" y="41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u=1755039292,2638964036&amp;fm=11&amp;gp=0"/>
          <p:cNvPicPr/>
          <p:nvPr/>
        </p:nvPicPr>
        <p:blipFill>
          <a:blip r:embed="rId3"/>
          <a:stretch/>
        </p:blipFill>
        <p:spPr>
          <a:xfrm>
            <a:off x="6934320" y="2057400"/>
            <a:ext cx="2057400" cy="148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4920" y="2138400"/>
            <a:ext cx="1927080" cy="12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19280" y="2057400"/>
            <a:ext cx="167184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576680" y="1828800"/>
            <a:ext cx="2205000" cy="173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995400" y="4419720"/>
            <a:ext cx="1824120" cy="18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u=1044306658,1768772924&amp;fm=23&amp;gp=0"/>
          <p:cNvPicPr/>
          <p:nvPr/>
        </p:nvPicPr>
        <p:blipFill>
          <a:blip r:embed="rId1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20880" y="914400"/>
            <a:ext cx="704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 Sing your song to your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59320" y="2971800"/>
            <a:ext cx="10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教给家长读短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80240" y="2841480"/>
            <a:ext cx="192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8240" y="152280"/>
            <a:ext cx="38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未命名"/>
          <p:cNvPicPr/>
          <p:nvPr/>
        </p:nvPicPr>
        <p:blipFill>
          <a:blip r:embed="rId1"/>
          <a:stretch/>
        </p:blipFill>
        <p:spPr>
          <a:xfrm>
            <a:off x="1143000" y="380880"/>
            <a:ext cx="6829560" cy="42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5334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791320" y="1676520"/>
            <a:ext cx="1371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828800"/>
            <a:ext cx="883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is the way I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read a book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on a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Sunda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mor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27432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未命名"/>
          <p:cNvPicPr/>
          <p:nvPr/>
        </p:nvPicPr>
        <p:blipFill>
          <a:blip r:embed="rId1"/>
          <a:stretch/>
        </p:blipFill>
        <p:spPr>
          <a:xfrm>
            <a:off x="1143000" y="457200"/>
            <a:ext cx="688644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8120" y="54100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my 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91320" y="1676520"/>
            <a:ext cx="1371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883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is the way I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do my homewor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on a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mor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27432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6"/>
          <p:cNvPicPr/>
          <p:nvPr/>
        </p:nvPicPr>
        <p:blipFill>
          <a:blip r:embed="rId1"/>
          <a:stretch/>
        </p:blipFill>
        <p:spPr>
          <a:xfrm>
            <a:off x="1295280" y="457200"/>
            <a:ext cx="681048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24080" y="54100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e a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562720"/>
            <a:ext cx="1524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P1060679"/>
          <p:cNvPicPr/>
          <p:nvPr/>
        </p:nvPicPr>
        <p:blipFill>
          <a:blip r:embed="rId1"/>
          <a:stretch/>
        </p:blipFill>
        <p:spPr>
          <a:xfrm>
            <a:off x="1371600" y="838080"/>
            <a:ext cx="6488280" cy="486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867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5"/>
          <p:cNvPicPr/>
          <p:nvPr/>
        </p:nvPicPr>
        <p:blipFill>
          <a:blip r:embed="rId1"/>
          <a:stretch/>
        </p:blipFill>
        <p:spPr>
          <a:xfrm>
            <a:off x="1371600" y="609480"/>
            <a:ext cx="6838920" cy="421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4100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raw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0"/>
            <a:ext cx="7238880" cy="9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Let’s cha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Do,  do,      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o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Draw,  draw,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raw a picture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Read,  read,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ead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Write,  write,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write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Watch,  watch,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Play,   play, 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未命名"/>
          <p:cNvPicPr/>
          <p:nvPr/>
        </p:nvPicPr>
        <p:blipFill>
          <a:blip r:embed="rId1"/>
          <a:stretch/>
        </p:blipFill>
        <p:spPr>
          <a:xfrm>
            <a:off x="6553080" y="228600"/>
            <a:ext cx="160020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6"/>
          <p:cNvPicPr/>
          <p:nvPr/>
        </p:nvPicPr>
        <p:blipFill>
          <a:blip r:embed="rId2"/>
          <a:stretch/>
        </p:blipFill>
        <p:spPr>
          <a:xfrm>
            <a:off x="6553080" y="3352680"/>
            <a:ext cx="1676520" cy="110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未命名"/>
          <p:cNvPicPr/>
          <p:nvPr/>
        </p:nvPicPr>
        <p:blipFill>
          <a:blip r:embed="rId3"/>
          <a:stretch/>
        </p:blipFill>
        <p:spPr>
          <a:xfrm>
            <a:off x="6553080" y="2286000"/>
            <a:ext cx="1676520" cy="104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012"/>
          <p:cNvPicPr/>
          <p:nvPr/>
        </p:nvPicPr>
        <p:blipFill>
          <a:blip r:embed="rId4"/>
          <a:stretch/>
        </p:blipFill>
        <p:spPr>
          <a:xfrm>
            <a:off x="6629400" y="4419720"/>
            <a:ext cx="1676520" cy="123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5"/>
          <p:cNvPicPr/>
          <p:nvPr/>
        </p:nvPicPr>
        <p:blipFill>
          <a:blip r:embed="rId5"/>
          <a:stretch/>
        </p:blipFill>
        <p:spPr>
          <a:xfrm>
            <a:off x="6553080" y="1295280"/>
            <a:ext cx="1600200" cy="98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未命12"/>
          <p:cNvPicPr/>
          <p:nvPr/>
        </p:nvPicPr>
        <p:blipFill>
          <a:blip r:embed="rId6"/>
          <a:stretch/>
        </p:blipFill>
        <p:spPr>
          <a:xfrm>
            <a:off x="6629400" y="5562720"/>
            <a:ext cx="1552680" cy="98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09:29:52Z</dcterms:created>
  <dc:creator/>
  <dc:description/>
  <dc:language>en-US</dc:language>
  <cp:lastModifiedBy/>
  <dcterms:modified xsi:type="dcterms:W3CDTF">2017-09-14T11:55:53Z</dcterms:modified>
  <cp:revision>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